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752013" cy="74660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00C-A017-45F7-8F37-9733B4BB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E8E-2BB1-4B9E-8E99-D9E7321C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192-28E7-4403-8DB2-CB572374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6476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6772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6180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6476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86772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714-EE72-41FD-AB1D-8645E0E8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E3D8-4E9E-418C-B9B9-DF2E6952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35A2-B842-4091-98DC-BC8CB36F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41CA-7DE6-45FA-9E50-C71F9F46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FFE6-25FE-43E4-80E7-012EED0F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4B0C-234C-4B0F-B4CC-36DF15C9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27240" y="672840"/>
            <a:ext cx="83152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E51F-F471-4EB0-9F1C-2FD255C9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38E5-C7BB-4855-A43F-FE8B4BB9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FB5-7F62-443D-8A13-02CCB1F9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9ECF-A099-41DD-AC70-886EF41C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5C44-532F-4021-8038-62C5FE09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A91B-E5FD-400E-9461-F83C3F68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7A90-8F2A-4300-8B40-8150D374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6476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6772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6180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06476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86772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D6B1-7A27-4B9A-9CDD-EA378023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B6C-834C-430B-9454-DC802C12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BB4-9875-453E-BD5C-AAE6483E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469-17EF-4FDF-A5EA-0D4BFA21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27240" y="672840"/>
            <a:ext cx="83152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8F8-015B-4EB7-85B0-126BC2DB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82C-F6C6-4797-9A5F-0481FA98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79C-E7BE-4446-8E03-17CBB5DD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E9B-8F6D-446F-81BF-8F7BF893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6040" y="252360"/>
            <a:ext cx="466920" cy="515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3920" y="252360"/>
            <a:ext cx="349560" cy="51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6360" y="711360"/>
            <a:ext cx="452520" cy="51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73080" y="711360"/>
            <a:ext cx="393840" cy="51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6440" y="631800"/>
            <a:ext cx="596880" cy="4604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2880" y="133200"/>
            <a:ext cx="34920" cy="1146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1600" y="995400"/>
            <a:ext cx="8775720" cy="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4880" y="6886080"/>
            <a:ext cx="20318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576240" y="6886080"/>
            <a:ext cx="30877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3840" y="6886080"/>
            <a:ext cx="20322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3EAC-CDC5-40CC-88CE-889EAB71BF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246400"/>
            <a:ext cx="9608760" cy="1144080"/>
            <a:chOff x="0" y="2246400"/>
            <a:chExt cx="9608760" cy="1144080"/>
          </a:xfrm>
        </p:grpSpPr>
        <p:grpSp>
          <p:nvGrpSpPr>
            <p:cNvPr id="49" name=""/>
            <p:cNvGrpSpPr/>
            <p:nvPr/>
          </p:nvGrpSpPr>
          <p:grpSpPr>
            <a:xfrm>
              <a:off x="309600" y="2363760"/>
              <a:ext cx="758160" cy="515880"/>
              <a:chOff x="309600" y="2363760"/>
              <a:chExt cx="758160" cy="515880"/>
            </a:xfrm>
          </p:grpSpPr>
          <p:sp>
            <p:nvSpPr>
              <p:cNvPr id="50" name=""/>
              <p:cNvSpPr/>
              <p:nvPr/>
            </p:nvSpPr>
            <p:spPr>
              <a:xfrm>
                <a:off x="309600" y="2363760"/>
                <a:ext cx="466560" cy="515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17840" y="2363760"/>
                <a:ext cx="349920" cy="515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41720" y="2822760"/>
              <a:ext cx="786600" cy="515880"/>
              <a:chOff x="441720" y="2822760"/>
              <a:chExt cx="786600" cy="515880"/>
            </a:xfrm>
          </p:grpSpPr>
          <p:sp>
            <p:nvSpPr>
              <p:cNvPr id="53" name=""/>
              <p:cNvSpPr/>
              <p:nvPr/>
            </p:nvSpPr>
            <p:spPr>
              <a:xfrm>
                <a:off x="441720" y="2822760"/>
                <a:ext cx="449640" cy="515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4840" y="2822760"/>
                <a:ext cx="393480" cy="515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743200"/>
              <a:ext cx="597600" cy="459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7160" y="2246400"/>
              <a:ext cx="33480" cy="11440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960" y="3139560"/>
              <a:ext cx="9271800" cy="60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6960" y="1990440"/>
            <a:ext cx="82897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057320" y="6804000"/>
            <a:ext cx="2031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657240" y="6804000"/>
            <a:ext cx="3089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315200" y="6804000"/>
            <a:ext cx="2031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331-6D57-4122-8978-F071FBFCD3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87440" y="1747080"/>
            <a:ext cx="877680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ufg.br/index.php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36352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8680" y="5457960"/>
            <a:ext cx="404100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Profa. Cristina Celia Silveira Brand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Universidade de Brasí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cbrandao@unb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Brasília, 09 de fevereiro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43040" y="244440"/>
            <a:ext cx="7273800" cy="685800"/>
            <a:chOff x="743040" y="244440"/>
            <a:chExt cx="7273800" cy="6858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743040" y="291960"/>
              <a:ext cx="120960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007000" y="244440"/>
              <a:ext cx="60098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de Brasíl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Departamento de Engenharia Civil e Ambi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660040" y="1023840"/>
            <a:ext cx="6526440" cy="871200"/>
            <a:chOff x="2660040" y="1023840"/>
            <a:chExt cx="6526440" cy="871200"/>
          </a:xfrm>
        </p:grpSpPr>
        <p:sp>
          <p:nvSpPr>
            <p:cNvPr id="105" name=""/>
            <p:cNvSpPr/>
            <p:nvPr/>
          </p:nvSpPr>
          <p:spPr>
            <a:xfrm>
              <a:off x="2660040" y="1169640"/>
              <a:ext cx="5736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Federal de Mato Grosso do Su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Departamento de Hidráulica e Transporte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454960" y="1023840"/>
              <a:ext cx="731520" cy="871200"/>
              <a:chOff x="8454960" y="1023840"/>
              <a:chExt cx="731520" cy="871200"/>
            </a:xfrm>
          </p:grpSpPr>
          <p:pic>
            <p:nvPicPr>
              <p:cNvPr id="107" name="UFMSsimbolo" descr=""/>
              <p:cNvPicPr/>
              <p:nvPr/>
            </p:nvPicPr>
            <p:blipFill>
              <a:blip r:embed="rId2"/>
              <a:stretch/>
            </p:blipFill>
            <p:spPr>
              <a:xfrm>
                <a:off x="8454960" y="1023840"/>
                <a:ext cx="731520" cy="7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 txBox="1"/>
              <p:nvPr/>
            </p:nvSpPr>
            <p:spPr>
              <a:xfrm>
                <a:off x="8554680" y="1773360"/>
                <a:ext cx="528120" cy="12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UFMS</a:t>
                </a:r>
                <a:endPara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1704960" y="2001960"/>
            <a:ext cx="4869720" cy="799920"/>
            <a:chOff x="1704960" y="2001960"/>
            <a:chExt cx="4869720" cy="799920"/>
          </a:xfrm>
        </p:grpSpPr>
        <p:sp>
          <p:nvSpPr>
            <p:cNvPr id="110" name=""/>
            <p:cNvSpPr/>
            <p:nvPr/>
          </p:nvSpPr>
          <p:spPr>
            <a:xfrm>
              <a:off x="2532240" y="2100240"/>
              <a:ext cx="40424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Federal de Goiá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Escola de Engenharia Civil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Página Principal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704960" y="2001960"/>
              <a:ext cx="703080" cy="79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6880" y="1330200"/>
            <a:ext cx="8937720" cy="56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Desenvolver propostas pedagógicas e material didático, que levem em consideração as peculiaridades regionais e as diferentes políticas, técnicas e tecnologias visando capacitar profissionais para operação, manutenção e gestão dos sistemas de sane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para o planejamento, gerenciamento, operação e manutenção de sistemas e serviços de saneamento, nos níveis local e regional,visando contribuir para a sustentabilidade dos empreendimentos e a melhoria da qualidade da prestação desses serviç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em sistemas de saneamento, incluindo as instalações hidrossanitárias, visando o uso racional de água e energ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em gestão e manejo de todos os tipos de resíduos sólidos,contemplando todas as fases do processo (geração, coleta, transformação e destinação de cada modalidade de resíduo), observadas as normas existentes e as exigências técnicas para a destinação adequada do resídu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para o manejo integrado das águas pluviais urbanas visando intervenções sustentáveis no território, que evitem a transferência dos impactos negativos para jusante, por meio de medidas de minimização da impermeabilização do solo, de controle dos escoamentos e da produção de sedimentos e outros mecanismos de amortecimento de che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855720" y="3529080"/>
            <a:ext cx="841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on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19548"/>
          <a:stretch/>
        </p:blipFill>
        <p:spPr>
          <a:xfrm>
            <a:off x="746280" y="3908520"/>
            <a:ext cx="8489880" cy="2908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25480" y="1314360"/>
            <a:ext cx="813132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Recursos finan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No âmbito desta Chamada Pública, serão comprometidos recursos não no valor de até R$ 4.000.000,00 originários do Fundo Setorial de Recursos Hídricos - CT-HIDRO. Além de recursos do MCidades/PMSS voltados para atividades no campo do Manejo Integrado dos Resíduos Sólidos Urb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6120" y="1357200"/>
            <a:ext cx="850716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Reunião de criação da Rede Nacional de Capacitação e Extensão Tecnológica em Sane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Os representantes das Instituições de Ensino selecionadas foram convocados para uma reunião em Brasília - DF. Essa reunião contou com a presença de consultores </a:t>
            </a:r>
            <a:r>
              <a:rPr b="0" i="1" lang="pt-BR" sz="2000" spc="-1" strike="noStrike">
                <a:solidFill>
                  <a:srgbClr val="000099"/>
                </a:solidFill>
                <a:latin typeface="Arial"/>
              </a:rPr>
              <a:t>ad hoc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definidos pela FINEP, de representantes do Ministério das Cidades, do GTCapacitação, da FINEP e do Comitê Gestor do CT-HIDRO e entidades do grupo de apo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Reunião foi realizada nos dias 19 e 20 de julho e recomendo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Ênfase na capacitação de operadores (chão de fábr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Buscar o estabelecimento de um sistema de certificação de formação profissional de operadores considerando uma formação modular e crescente com níveis diferenciados de conhecimento</a:t>
            </a: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00320" y="21708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Plano de Trabalho dos Núcleos Regionais –</a:t>
            </a:r>
            <a:br>
              <a:rPr sz="2800"/>
            </a:b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oluções de Capacitação e de Extensão Tecnológic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95160" y="1179360"/>
            <a:ext cx="882036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URSO PRES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PROGRAMA DE ENSINO À DISTÂNCI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TREINAMENTO OPERACIONA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atividades voltadas principalmente para a capacitação do nível operacional do setor, sempre que possível desenvolvidas em simulação de condições de trabalho, utilizando infra-estrutura tipo mini-redes, unidades piloto, unidades de demonstração em escala real; laboratórios de análises; equipament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INTERCÂMBIO TECNOLÓGIC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atividades que envolvem a realização de visitas técnicas, transferência de técnicas e tecnologias e estágios assistidos  entre as instituições e entidades que integram o plano de trabalho do núcleo reg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APACITAÇÃO EM PROCESS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proposta didático-pedagógica, também denominada, “treinamento em serviço”, busca a formação de facilitadores e  multiplicadores que se habilitem a internalizar e difundir novas práticas de gestão e procedimentos operacionais no âmbito das instituições. São atividades que requerem o envolvimento não só do corpo técnico, mas, sobretudo, dos dirigentes/tomadores de decisão da instituiçã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OUTRAS MODALIDADE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espaço livre para proposição pelo Núcleo Regional, de outras ferramentas/soluções de capacitação e de extens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969840" y="1481040"/>
            <a:ext cx="8383680" cy="49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1 Diagnosticar o público-alvo, oferta e demanda de atividades de capacitação e de extensão tecnológica em saneamento na região Centro-Oe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2 Realizar atividades de capacitação e de extensão tecnológica em sane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3 Construir uma proposta/plano de capacitação e certificação de ope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4 Desenvolvimento e produção de  material did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5 Desenvolvimento preliminar de instrumento para avaliação das atividades de capaci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6 Elaborar ferramentas institucionais para divulgação das atividades de capacitação do núcle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4880" y="1349280"/>
            <a:ext cx="8995320" cy="59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2 - Atividades de capacitação e de extensão tecnológica em san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bastecimento de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3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gotamento sanit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2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de resíduos sólidos urb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0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de águas pluviais urb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8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técnicos de NS e ge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ções transvers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laboração de Planos Diretores de Sanea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836640" y="1309680"/>
            <a:ext cx="84074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Parceiros at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Prefeitura Municipal de Campo Grande- PM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Saneamento Ambiental Do Distrito Federal - Caes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Águas Guariroba S.A. – Guariro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Empresa de Saneamento de Mato Grosso do Sul S/A. – Sanes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Urbanizadora da Nova Capital do Brasil - Nova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aneamento de Goiás S/A. – Sane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Saneamento da Capital – Sane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Colabo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enai-DF e SENAI-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Urbanização de Goiânia – COM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DERMU-COMP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EM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00"/>
                </a:solidFill>
                <a:latin typeface="Times New Roman"/>
              </a:rPr>
              <a:t>É objetivo do projeto agregar novos parceiros de forma contin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55720" y="1479600"/>
            <a:ext cx="840564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Situação a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nvênio celebrado em dezembro de 2005 no valor de R$ 1.145.639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penas 14,5% dos recursos são para infraestrutura das instituições envolvidas, o restante é para desenvolvimento das atividades de capacitação, inclusive elaboração e publicação de material did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Execução da meta 1 - Diagnosticar o público-alvo, oferta e demanda de atividades de capacitação e de extensão tecnológica em saneamento na região Centro-O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Questionários já foram elab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Definição das áreas onde serão aplicados os questionários – até 20/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Recebimento e ‘tratamento da informação – até 31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Adequação das atividades de capacitação e extensão – 30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9960" y="289080"/>
            <a:ext cx="84531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403280"/>
            <a:ext cx="8940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de tem o propósito de reunir, articular e integrar um conjunto de instituições e entidades com o objetivo d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omover o desenvolvimento institucional do setor mediante soluções de capacitação, intercâmbio técnico e extensão tecnológic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visando disciplinar a intervenção de todos os agentes envolvi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s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Núcleos Regionais expressam o caráter embrionário da Red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 deverão ser constituídos atendendo aos requisitos da abrangência temática e da capilaridade regional, atuando em todas as frentes das ações de saneamento, considerando-se as políticas e técnicas de manejo, tratamento e disposição específicas para cada tema do saneamento e apropriadas para cada regi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de será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gradativamente ampliad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para adesão de outras instituições e entidades, inclusive aquelas de atuação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1320" y="287280"/>
            <a:ext cx="8539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– Objetivos e Ações Prev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920" y="1455840"/>
            <a:ext cx="89690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or a rede nacional com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formato dinâmico e pluralist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contando com representações regionais e entidades de expressão nacion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Mobilizar e articular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dades gestoras, prestadores de serviços, instituições de ensino, entidades de formação profissional, pesquisadores, técnicos e organizações específicas do setor, permitindo além da presença de instituições mais tradicionais, também as de pequeno porte, as de inserção recente nas temáticas do sane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mover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iniciativas cooperad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ntre os integrantes da Rede visando o desenvolvimento institucional do setor, oferecendo soluções de capacitação e oportunidades de intercâmbio tecnológico voltadas para os profissionais que atuam tanto na operação do saneamento, o chamado “chão de fábrica”, até o nível técnico, superior, de gestores e de dirige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1320" y="287280"/>
            <a:ext cx="8539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– Objetivos e Ações Prev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" y="1325520"/>
            <a:ext cx="91440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poiar a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odução, a disseminação e o intercâmbio do conheci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integrando pessoas e instituições para ampliar o acesso e compartilhamento da informação mediante a difusão de políticas, de boas práticas e de técnicas apropriadas de treinamento operacional por intermédio das ferramentas do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ortal do Conheci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m Saneamento Ambien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centivar os agentes que integram a Rede a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laborar com a dinâmica de funcionamento do Porta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disponibilizando, por meios eletrônicos, um conjunto de soluções de capacitação (campos diversos), além de oferecer os elementos para a formação de comunidades virtuais, gestão corporativa e oportunidades de ensino à distân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tabelecer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nvênios e parcerias com entidades internacionai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sempre que possível, visando o desenvolvimento e o intercâmbio de conhecimento, técnicas e de recursos humanos e mate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7000" y="287280"/>
            <a:ext cx="8453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Comitê Gestor (Propo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960" y="1341360"/>
            <a:ext cx="89406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s Cidade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Secretaria Executiva,  da SNSA e do P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Ciência e Tecnologi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 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N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o Meio Ambient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Secretaria de Recursos Hídricos (SRH) e da Secretaria de Qualidade Ambiental em Assentamentos Humanos (SQ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gência Nacional das Águ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do MMA, por intermédio da Superintendência de Tecnologia e Capacitação (S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Edu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Integração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Saúd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Fundação Nacional da Saúde (FUN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ixa Econômica Federa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CAIX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97000" y="287280"/>
            <a:ext cx="8556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Grupo de Apoio (Propo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4400" y="1409760"/>
            <a:ext cx="872352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Instituto Brasileiro de Administração Municipal – I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Instituto de Pesquisa Tecnológica – 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istema “S”- SEBR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Nacional dos Serviços Municipais de Água e Esgoto – ASSEM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Brasileira de Engenharia Sanitária e Ambiental – A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das Empresas Estaduais de Saneamento Básico – AES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ederação Nacional dos Urbanitários – Secretaria de Saneamento – FNU/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órum Nacional Lixo &amp; Cidadania – L&amp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rente Nacional pelo Saneamento Ambiental - F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órum Nacional De Reforma Urbana – FNRU/F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97000" y="287280"/>
            <a:ext cx="8453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Antece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120" y="1312920"/>
            <a:ext cx="91407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studo de viabilidade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realizado pela UnB, SRH e o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ffice International de l’Eau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(OIEAU), em 2002 </a:t>
            </a:r>
            <a:r>
              <a:rPr b="0" lang="pt-BR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proposta de se implantar, no Brasil, um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entro de Treinament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específico, concebido nos moldes do Centro Nacional Francês de Formação para as Profissões Relacionadas com a Á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usto Total de implantação (exceto terreno):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$ 10.150.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Custo operacional: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R$ 2.900.000 / a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Grupo de Trabalho sobre Capacitação em Saneamento,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GT Capacitaçã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, de composição interministerial, concebido no início de 2004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iciativa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: MCIDADES (SNSA), MMA (SRH),  ANA e M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studo sobre Capacitação em Saneamento Ambiental: identificação e qualificação da oferta e d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No que se refere ao público-alvo, o Estudo identificou que a demanda em capacitação </a:t>
            </a:r>
            <a:r>
              <a:rPr b="0" lang="pt-BR" sz="1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abrange desde o nível operacional básico até o nível técnico, incluindo engenheiros e gestore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 Estudo revelou que </a:t>
            </a:r>
            <a:r>
              <a:rPr b="0" lang="pt-BR" sz="1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existe, no país, significativo potencial instalado em termos de capacidade pedagógica e infra-estrutura física para treinament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. São instituições de ensino, de pesquisa, entidades do setor e operadores que desenvolvem programas e atividades de capacitação, muitos destes com bom nível de institucionalização. Também foram identificadas, além de boa infra-estrutura de ensino, a existência de unidades de treinamento em escala real, unidades piloto e laborató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00320" y="5097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82800" y="1428840"/>
            <a:ext cx="754056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leção pública de instituições de ensino para a constituição da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de Nacional de Capacitação e Extensão Tecnológica em Sane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ta Rede, organizada inicialmente por intermédio de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úcleos Regionai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 capacitação, apoio técnico e extensão tecnológica, tem como objetivo promover o desenvolvimento institucional do setor saneamento, de modo a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ontribuir para a melhoria do desempenho operacional e da gestão dos sistem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 abastecimento de água, esgotamento sanitário, manejo integrado dos resíduos sólidos e manejo integrado das águas pluviais urb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00320" y="5097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1379520"/>
            <a:ext cx="850608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brangência te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erenciamento, operação e manutenção dos sistemas de abastecimento de água com ênfase nas unidades de tratamento e nos processos e técnicas de uso eficiente de água e de energ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erenciamento, operação e manutenção dos sistemas de esgotamento sanitário, com ênfase nas unidades de tratamento de esgo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integrado das águas pluviais urbanas, com ênfase em soluções que visem o controle da impermeabilização do solo e outros mecanismos de redução ou amortecimento das cheias e em medidas locais para controle dos escoamentos e da produção de sedimen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integrado dos resíduos sólidos urbanos, com ênfase nas técnicas e processos de gestão voltados para a minimização da geração, manejo e transporte,processos de transformação e destinação adequada dos resíd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18:28:52Z</dcterms:created>
  <dc:creator>Nabil</dc:creator>
  <dc:description/>
  <dc:language>en-US</dc:language>
  <cp:lastModifiedBy>CB</cp:lastModifiedBy>
  <dcterms:modified xsi:type="dcterms:W3CDTF">2006-02-09T14:46:21Z</dcterms:modified>
  <cp:revision>120</cp:revision>
  <dc:subject/>
  <dc:title>APLICAÇÃO DE LODO DE ESTAÇÃO DE TRATAMENTO DE ÁGUA COMO COAGULANTE EM UNIDADES DE TRATAMENTO DE ESGOTOS</dc:title>
</cp:coreProperties>
</file>